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A83-F56B-4672-946C-F7E51AEA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E1D-3E74-4342-BDC5-DF85050B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9BC-4A93-425B-B1A8-A747CBD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093-1750-48E3-A611-EFDCC9F0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23F-7C0B-46EF-B691-ED9AB5C9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059-BC34-4F86-89EB-C7E5E09A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220-5250-4159-912B-FDB1168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64F-951B-4F34-8234-E97BF52D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CA2-5B9D-4FFD-9131-FEB41EF3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DC1-4A70-43E4-BFB6-B9E6AE2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28C-DAFB-430D-A6EE-BF5DD81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DE3-DDB9-486E-81EB-979E406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BEF3-3DB7-41A4-81A3-DA865AFC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4 Pán je môj vod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chráň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o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ýšiná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a zv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bezpečne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nezablúd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znám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vedie k nemu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y veď ma sám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na tv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o dbá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bránil 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i celý sve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cestu razí Víťaz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kráčam k novým 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 len ty ma 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 noci temnej ty mi 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ám stra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, zástupca môj 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uj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a ma, za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ierou naň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19:40Z</dcterms:modified>
  <cp:revision>22</cp:revision>
  <dc:subject/>
  <dc:title>Je veľký náš Pán, on slávy je Kráľ Nech do všetkých strán  spev vrúcnych znie chvál.</dc:title>
</cp:coreProperties>
</file>